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5BE-8903-47C1-9FC4-9B0A721D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6D7-89AC-4D1A-BAA6-15272650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D48-8897-4854-8AF0-9AE7D5E9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2CE-7EE5-440A-AB5C-DC9DC583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2AE-DA50-4A90-8628-E65CCE7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1668-1C37-4AB0-8E3B-55BEA6C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14A2-9F25-4410-A158-FC5D08A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DCA-A11C-4734-8313-79AB927B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BFF-5C4D-4062-81AF-42BFFA59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B5AA-6830-45D3-93FB-372E593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283-FB73-4D2C-A39C-D81576A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5B3-658C-4D39-91AF-AE11D67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6F19-E2ED-4A46-B859-0320EAD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FC04-9662-4619-9B13-6FF36CF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0E45-15EB-4EAE-B6BA-1AC7AE6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22F0-C10F-4396-A3CB-49E968A3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01C-EF5A-4CD3-8D35-7D35ABF6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AFA-A3AD-4AEB-8864-8DD28DB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2A7-1762-4193-9FF3-968DA5E8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EF9-2CF5-44D7-9D17-66C1982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7EF-2892-43F4-AFF2-6B5086E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617-5BDE-4775-B6AB-B9CED99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DC0-C5FA-4172-AF1E-FEA6A28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701-FB98-46A0-99B7-350B3E4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2FD8-C13A-41D1-9290-684F2FE87E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59BD-BB5C-4C81-A9B2-5167AE009B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Me llamo _________ Clase 7 IM</a:t>
            </a:r>
            <a:br>
              <a:rPr sz="4000"/>
            </a:b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La fecha es el 14 de octubre del 20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Propósito # 10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qué hora haces tu tare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32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Identi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467480" y="2819520"/>
            <a:ext cx="1333800" cy="11570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52712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299880" y="4724280"/>
            <a:ext cx="114804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3962520" y="2743200"/>
            <a:ext cx="107928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7391520" y="45720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228600" y="3048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715000" y="297180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3733920" y="5029200"/>
            <a:ext cx="1276200" cy="995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2209680" y="3048120"/>
            <a:ext cx="12780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320" y="3240"/>
            <a:ext cx="9144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cer, poner, traer y salir en el presente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Telling what people d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0" y="2819520"/>
          <a:ext cx="91440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676520"/>
                <a:gridCol w="1523880"/>
                <a:gridCol w="144792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a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7632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verbs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hace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do, to mak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pon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put, to pla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ra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bring),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salir</a:t>
            </a: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to leav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ave an irregular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. They are known as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-Go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erbs because the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m has a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g”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ll other forms are reg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69000" y="335268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93480" y="388620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49280" y="43578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83160" y="487692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37680" y="54100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hac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6200" y="5943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hac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4520" y="33526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44800" y="38242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37600" y="43434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47800" y="48769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65960" y="54100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Verdana"/>
              </a:rPr>
              <a:t>pon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5943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78040" y="33670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280" y="380988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24560" y="43434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34400" y="48769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17280" y="54100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é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51120" y="59436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r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00840" y="33526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804800" y="3824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73560" y="435780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83840" y="48769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81200" y="541008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76440" y="59436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2. Remember, that the verb</a:t>
            </a:r>
            <a:r>
              <a:rPr b="0" lang="en-US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has a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“g”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n the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YO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rm.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Tene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is also a BOOT-verb. The verb </a:t>
            </a:r>
            <a:r>
              <a:rPr b="1" lang="en-US" sz="2400" spc="-1" strike="noStrike">
                <a:solidFill>
                  <a:srgbClr val="cc6600"/>
                </a:solidFill>
                <a:latin typeface="Verdana"/>
              </a:rPr>
              <a:t>Venir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(to come)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ollows the same patter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1680" y="1600200"/>
          <a:ext cx="8540640" cy="45370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e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los ellas 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43360" y="231624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7560" y="2925720"/>
            <a:ext cx="14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2640" y="36115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2240" y="41911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en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71880" y="487692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tené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1840" y="54864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14560" y="22860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46240" y="289548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45960" y="36115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93960" y="422100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eni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56480" y="49068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ven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90520" y="5516640"/>
            <a:ext cx="14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e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ieta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jercicio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.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a p. 37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35082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1:17:26Z</dcterms:created>
  <dc:creator>Helen Zumaeta</dc:creator>
  <dc:description/>
  <dc:language>en-US</dc:language>
  <cp:lastModifiedBy>Helen Zumaeta</cp:lastModifiedBy>
  <dcterms:modified xsi:type="dcterms:W3CDTF">2011-10-14T20:08:10Z</dcterms:modified>
  <cp:revision>3</cp:revision>
  <dc:subject/>
  <dc:title>Me llamo _________ Clase 7 IM La fecha es el 14 de octubre del 2011</dc:title>
</cp:coreProperties>
</file>